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EA8-1E0A-46EE-AC07-F3BA64D3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896-0770-4F12-BEC5-810CC141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06F-4DF5-4657-9FAC-87F70BF7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337-A936-4925-A85C-3E450C2B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23D9-371A-4C0A-A864-B00DD915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8EA2-60F7-4C11-8C76-03E4CB4C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11F7-AE74-4A24-A880-761B8130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FC1B-7FA9-4F68-80C3-D709C195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DEEB-C3E4-4D83-B0BE-C73C3565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EBD3-3610-42AD-937C-78D258ED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B278-478A-47B7-8943-AA7BF794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A7B-2C75-4702-9DDB-C89E66CB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80BD-AB2D-4917-BE0F-88624683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B58D-03F3-4D23-95E5-B61D7DAD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3851-91ED-46DA-ADE9-1C8484B7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C6CF-5E14-4D2B-868D-C3B082A4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3267-7367-4AC7-8D46-654A019B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31B-3EBD-47AF-86D0-94B00F31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AC5-CC21-4E42-B082-2BD52243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C45-8EE0-4565-BC47-AF3CB29B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C42-FCBF-4DCA-A431-1F4F38F3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6A7-69F8-4AAE-AD59-D792969A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922-010B-4F5A-AD63-8F937B4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907-47CC-49A1-B248-72DFE5E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C90B-4498-4DC7-9814-E13AC7E970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1BEC-A105-4022-9964-06DB0369A1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gymnasticscoaching.com/new/wp-content/uploads/2009/08/Nastia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erformance Appre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YMNA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n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February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409572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87972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832120" cy="204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268280"/>
            <a:ext cx="2735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swer the following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at ever you do not get finished today must get completed for homework and handed in next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TUESDAY 2</a:t>
            </a:r>
            <a:r>
              <a:rPr b="0" lang="en-GB" sz="3200" spc="-1" strike="noStrike" baseline="30000">
                <a:solidFill>
                  <a:srgbClr val="ff0000"/>
                </a:solidFill>
                <a:latin typeface="Tahoma"/>
              </a:rPr>
              <a:t>nd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 M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questions will be put on the 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WI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 your skills and techniques course booklet to help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ahoma"/>
              </a:rPr>
              <a:t>Revision Question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125360"/>
            <a:ext cx="754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  Select a skill/technique from below and describe it in terms of the following: Preparation, Action, Recove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rehand Overhead Clear, Forehand Smash, Forehand Overhead Dropshot, High serv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 Describe what you did to compare your performance with a model performer? (Include PAR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3 Select 2 methods of practice and describe how they were used to develop that skill/technique.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4 Motivation, concentration and feedback are important factors that effect your performance in any ac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lect one o these factors and explain how it affected your performance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DooganS</cp:lastModifiedBy>
  <dcterms:modified xsi:type="dcterms:W3CDTF">2010-02-22T14:21:54Z</dcterms:modified>
  <cp:revision>64</cp:revision>
  <dc:subject/>
  <dc:title>Slide 1</dc:title>
</cp:coreProperties>
</file>